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FAA-57F2-4922-BF3A-8F9AE48D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6A9-A701-4A80-AAF5-2D00EC99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126-433E-4D5B-9FA1-10AB047F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D32-9FF4-4AF2-869F-FD55486C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750-F0E4-4E11-8736-693E56F8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15C-8E9A-4483-9608-85FC65B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42D-9095-4BCB-9AC0-A09C71D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077-4D65-4FDD-B64A-4B34A404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6FF-F47D-4DC5-B0AC-1E6D5EFC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FBF-E045-4223-8824-77C3CB0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041-E1DA-48D3-AA0B-CAB8C8A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7A6-40C5-4C1A-9570-0D9D47F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B8C5-976E-470A-83E7-59925121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5029200"/>
            <a:ext cx="914400" cy="9144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4343400"/>
            <a:ext cx="457200" cy="4572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3886200"/>
            <a:ext cx="30492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4876920"/>
            <a:ext cx="2133720" cy="2209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3886200"/>
            <a:ext cx="1143000" cy="11430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848720" y="2971800"/>
            <a:ext cx="685800" cy="6858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2057400"/>
            <a:ext cx="30456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43600" y="4876920"/>
            <a:ext cx="762120" cy="76176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410080" y="4419720"/>
            <a:ext cx="381240" cy="38088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562720" y="3886200"/>
            <a:ext cx="228600" cy="2286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04920" y="-533520"/>
            <a:ext cx="1600200" cy="1600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971800" y="533520"/>
            <a:ext cx="1066680" cy="1066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095880" y="152280"/>
            <a:ext cx="457200" cy="457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. Et leurs Inventeu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u Pascad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 7-èm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80773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Des Inventions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Révolutionnair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éléphone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scientifiques ont contribué à l'invention du téléphone. Le plus important a été Alexander Graham Bell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Graham Bell a inventé le premier téléphone pratique vers 1876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est bien connu pour les mots célèbres &lt;&lt; Watson, vien ici! Je veux te voir! &gt;&gt; , qu’il a dit pour tester son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84320"/>
            <a:ext cx="1825920" cy="156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122400"/>
            <a:ext cx="21877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Ampoul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’Ampoule a été inventé en 1879 par Thomas Alva Edison, qui a été un inventeur américain et homme d'affaires important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ison a inventé aussi la phonographe, la duplex télégraphe système et plusieurs d’autr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tebulb"/>
          <p:cNvSpPr/>
          <p:nvPr/>
        </p:nvSpPr>
        <p:spPr>
          <a:xfrm rot="772200">
            <a:off x="914400" y="380520"/>
            <a:ext cx="1233360" cy="17766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492200">
            <a:off x="6172200" y="472392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Ordinateur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y a eu plusieurs étapes dans l'évolution de l'ordinateur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 ordinateur programmable a été inventé en 1936 par Konrad Zuse en Allemagn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 premier ordinateur programmable électrique (Colossus) a été inventé par Tommy Flowers vers 1943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 ordinateur avec des programs stocké (EDSAC) a été inventé vers 1949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61200" y="4648320"/>
            <a:ext cx="1944720" cy="1985760"/>
          </a:xfrm>
          <a:prstGeom prst="rect">
            <a:avLst/>
          </a:prstGeom>
          <a:ln w="0">
            <a:noFill/>
          </a:ln>
        </p:spPr>
      </p:pic>
      <p:sp>
        <p:nvSpPr>
          <p:cNvPr id="70" name="laptop"/>
          <p:cNvSpPr/>
          <p:nvPr/>
        </p:nvSpPr>
        <p:spPr>
          <a:xfrm>
            <a:off x="685800" y="4952880"/>
            <a:ext cx="2133720" cy="1667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V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télévision est apparu dans Europe vers 1930 et dans Amerique après la Seconde Guerre mondial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s inventeurs du TV et de la télévision ne sont pas connus.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lusieurs de personnes ont assisté à leur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158616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122400"/>
            <a:ext cx="19144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personnes ont contribué à l’invention de la voiture:</a:t>
            </a: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769, Nicolas-Joseph Cugnot a construit le premier véhicule routier avec de propulsion automatique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32, Robert Anderson a inventé la première chariot électriqu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85, Karl Friedrich Benz a inventé la première voiture vraie, qui fonctionnait à l'essenc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3124080" cy="19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19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53:34Z</dcterms:created>
  <dc:creator>User</dc:creator>
  <dc:description/>
  <dc:language>en-US</dc:language>
  <cp:lastModifiedBy>User</cp:lastModifiedBy>
  <dcterms:modified xsi:type="dcterms:W3CDTF">2012-05-07T17:13:03Z</dcterms:modified>
  <cp:revision>12</cp:revision>
  <dc:subject/>
  <dc:title>Slide 1</dc:title>
</cp:coreProperties>
</file>