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E739-8DB5-40CE-B8AA-621F93A40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DEE2-B55F-4498-ABD3-273B0051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DC50-792D-48E5-8982-688A6EAD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B2A4-1540-4D8C-BAEB-8D7653DE5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2E77-6078-4FC4-84D1-CE83EAE8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9F9E-E172-48ED-BDEC-76BBC697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EFE7-30E2-48CC-AE69-633D961E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68FD-86DD-44E5-9A21-B592C1AD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4C3B-A2B0-46E5-B02D-909EC23D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272A-9B9B-4F22-80D5-0576655B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F3B1-A8A3-49AA-9EB6-BD65AAE7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DD3C-FF68-4554-B915-A3E72A7F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49019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719C-9814-4BCE-A386-D2F28BD3C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5029200"/>
            <a:ext cx="914400" cy="91440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43000" y="4343400"/>
            <a:ext cx="457200" cy="45720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14400" y="3886200"/>
            <a:ext cx="304920" cy="30492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6781680" y="4876920"/>
            <a:ext cx="2133720" cy="2209680"/>
          </a:xfrm>
          <a:prstGeom prst="ellips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238880" y="3886200"/>
            <a:ext cx="1143000" cy="114300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7848720" y="2971800"/>
            <a:ext cx="685800" cy="68580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7620120" y="2057400"/>
            <a:ext cx="304560" cy="30492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5943600" y="4876920"/>
            <a:ext cx="762120" cy="76176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5410080" y="4419720"/>
            <a:ext cx="381240" cy="38088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5562720" y="3886200"/>
            <a:ext cx="228600" cy="22860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-304920" y="-533520"/>
            <a:ext cx="1600200" cy="1600200"/>
          </a:xfrm>
          <a:prstGeom prst="ellips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2971800" y="533520"/>
            <a:ext cx="1066680" cy="1066680"/>
          </a:xfrm>
          <a:prstGeom prst="ellips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6095880" y="152280"/>
            <a:ext cx="457200" cy="457200"/>
          </a:xfrm>
          <a:prstGeom prst="ellips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. Et leurs Inventeur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exandru Pascadi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e 7-èm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981080"/>
            <a:ext cx="8077320" cy="14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4d4d4d">
                      <a:alpha val="50000"/>
                    </a:srgbClr>
                  </a:outerShdw>
                </a:effectLst>
                <a:latin typeface="Arial Black"/>
              </a:rPr>
              <a:t>Des Inventions 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53753" dir="2700000" blurRad="0" rotWithShape="0">
                  <a:srgbClr val="4d4d4d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4d4d4d">
                      <a:alpha val="50000"/>
                    </a:srgbClr>
                  </a:outerShdw>
                </a:effectLst>
                <a:latin typeface="Arial Black"/>
              </a:rPr>
              <a:t>Révolutionnaires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53753" dir="2700000" blurRad="0" rotWithShape="0">
                  <a:srgbClr val="4d4d4d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68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e Téléphone 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aucoup de scientifiques ont contribué à l'invention du téléphone. Le plus important a été Alexander Graham Bell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exander Graham Bell a inventé le premier téléphone pratique vers 1876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l est bien connu pour les mots célèbres &lt;&lt; Watson, vien ici! Je veux te voir! &gt;&gt; , qu’il a dit pour tester son invention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0880" y="184320"/>
            <a:ext cx="1825920" cy="1568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629400" y="5029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80880" y="51055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781680" y="122400"/>
            <a:ext cx="2187720" cy="16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’Ampoule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’Ampoule a été inventé en 1879 par Thomas Alva Edison, qui a été un inventeur américain et homme d'affaires important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dison a inventé aussi la phonographe, la duplex télégraphe système et plusieurs d’autre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tebulb"/>
          <p:cNvSpPr/>
          <p:nvPr/>
        </p:nvSpPr>
        <p:spPr>
          <a:xfrm rot="772200">
            <a:off x="914400" y="380520"/>
            <a:ext cx="1233360" cy="177660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 rot="19492200">
            <a:off x="6172200" y="472392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’Ordinateur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l y a eu plusieurs étapes dans l'évolution de l'ordinateur: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e premier ordinateur programmable a été inventé en 1936 par Konrad Zuse en Allemagne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e premier ordinateur programmable électrique (Colossus) a été inventé par Tommy Flowers vers 1943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e premier ordinateur avec des programs stocké (EDSAC) a été inventé vers 1949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361200" y="4648320"/>
            <a:ext cx="1944720" cy="1985760"/>
          </a:xfrm>
          <a:prstGeom prst="rect">
            <a:avLst/>
          </a:prstGeom>
          <a:ln w="0">
            <a:noFill/>
          </a:ln>
        </p:spPr>
      </p:pic>
      <p:sp>
        <p:nvSpPr>
          <p:cNvPr id="70" name="laptop"/>
          <p:cNvSpPr/>
          <p:nvPr/>
        </p:nvSpPr>
        <p:spPr>
          <a:xfrm>
            <a:off x="685800" y="4952880"/>
            <a:ext cx="2133720" cy="16671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e TV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 télévision est apparu dans Europe vers 1930 et dans Amerique après la Seconde Guerre mondiale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es inventeurs du TV et de la télévision ne sont pas connus. 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Plusieurs de personnes ont assisté à leur invention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638680" y="2590920"/>
            <a:ext cx="1586160" cy="1646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066680" y="122400"/>
            <a:ext cx="1914480" cy="16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a Voiture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aucoup de personnes ont contribué à l’invention de la voiture:</a:t>
            </a:r>
            <a:br>
              <a:rPr sz="1800"/>
            </a:b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 1769, Nicolas-Joseph Cugnot a construit le premier véhicule routier avec de propulsion automatique;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 1832, Robert Anderson a inventé la première chariot électrique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 1885, Karl Friedrich Benz a inventé la première voiture vraie, qui fonctionnait à l'essence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4800600"/>
            <a:ext cx="3124080" cy="1920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486400" y="4800600"/>
            <a:ext cx="281952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53:34Z</dcterms:created>
  <dc:creator>User</dc:creator>
  <dc:description/>
  <dc:language>en-US</dc:language>
  <cp:lastModifiedBy>User</cp:lastModifiedBy>
  <dcterms:modified xsi:type="dcterms:W3CDTF">2012-05-07T17:13:03Z</dcterms:modified>
  <cp:revision>12</cp:revision>
  <dc:subject/>
  <dc:title>Slide 1</dc:title>
</cp:coreProperties>
</file>