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E26-61C2-4AF6-B5EF-CEA26207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69C-16ED-48AB-8A62-5B2BF0EF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7A1-AE0B-4B48-8B75-65BBA85F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442-9C2E-4742-8908-87D68A81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FEA-D235-4DBA-AE08-FB5FB0EA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E31-620A-4CD0-BE6C-D7AD2137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FED-DD47-4D2E-B9B1-9AA8B4EE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247-F791-4F23-BAAB-FF18C34F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220-0635-45AB-BDAD-1E87EF8A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93C-7A87-4C59-B27F-E1364662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ED2-099A-475F-9B9E-1AFF5937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5A2-3E22-4D7A-93E7-FE770D07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B75A-AD9B-4C1B-9066-B05F1C4FF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5029200"/>
            <a:ext cx="914400" cy="9144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4343400"/>
            <a:ext cx="457200" cy="4572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4400" y="3886200"/>
            <a:ext cx="304920" cy="30492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781680" y="4876920"/>
            <a:ext cx="2133720" cy="22096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38880" y="3886200"/>
            <a:ext cx="1143000" cy="11430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848720" y="2971800"/>
            <a:ext cx="685800" cy="6858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620120" y="2057400"/>
            <a:ext cx="304560" cy="30492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943600" y="4876920"/>
            <a:ext cx="762120" cy="76176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410080" y="4419720"/>
            <a:ext cx="381240" cy="38088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5562720" y="3886200"/>
            <a:ext cx="228600" cy="2286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-304920" y="-533520"/>
            <a:ext cx="1600200" cy="160020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2971800" y="533520"/>
            <a:ext cx="1066680" cy="10666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6095880" y="152280"/>
            <a:ext cx="457200" cy="45720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. Et leurs Inventeur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andru Pascadi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e 7-èm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807732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Des Inventions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Révolutionnair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6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 Téléphone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aucoup de scientifiques ont contribué à l'invention du téléphone. Le plus important a été Alexander Graham Bell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exander Graham Bell a inventé le premier téléphone pratique vers 1876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 est bien connu pour les mots célèbres &lt;&lt; Watson, vien ici! Je veux te voir! &gt;&gt; , qu’il a dit pour tester son invention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84320"/>
            <a:ext cx="1825920" cy="1568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6294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122400"/>
            <a:ext cx="218772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’Ampoul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’Ampoule a été inventé en 1879 par Thomas Alva Edison, qui a été un inventeur américain et homme d'affaires important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ison a inventé aussi la phonographe, la duplex télégraphe système et plusieurs d’autre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tebulb"/>
          <p:cNvSpPr/>
          <p:nvPr/>
        </p:nvSpPr>
        <p:spPr>
          <a:xfrm rot="772200">
            <a:off x="914400" y="380520"/>
            <a:ext cx="1233360" cy="17766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9492200">
            <a:off x="6172200" y="472392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’Ordinateur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 y a eu plusieurs étapes dans l'évolution de l'ordinateur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premier ordinateur programmable a été inventé en 1936 par Konrad Zuse en Allemagn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 premier ordinateur programmable électrique (Colossus) a été inventé par Tommy Flowers vers 1943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premier ordinateur avec des programs stocké (EDSAC) a été inventé vers 1949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361200" y="4648320"/>
            <a:ext cx="1944720" cy="1985760"/>
          </a:xfrm>
          <a:prstGeom prst="rect">
            <a:avLst/>
          </a:prstGeom>
          <a:ln w="0">
            <a:noFill/>
          </a:ln>
        </p:spPr>
      </p:pic>
      <p:sp>
        <p:nvSpPr>
          <p:cNvPr id="70" name="laptop"/>
          <p:cNvSpPr/>
          <p:nvPr/>
        </p:nvSpPr>
        <p:spPr>
          <a:xfrm>
            <a:off x="685800" y="4952880"/>
            <a:ext cx="2133720" cy="1667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 TV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télévision est apparu dans Europe vers 1930 et dans Amerique après la Seconde Guerre mondiale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s inventeurs du TV et de la télévision ne sont pas connus.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lusieurs de personnes ont assisté à leur invention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1586160" cy="164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66680" y="122400"/>
            <a:ext cx="191448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 Voitur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aucoup de personnes ont contribué à l’invention de la voiture:</a:t>
            </a: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769, Nicolas-Joseph Cugnot a construit le premier véhicule routier avec de propulsion automatique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832, Robert Anderson a inventé la première chariot électriqu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885, Karl Friedrich Benz a inventé la première voiture vraie, qui fonctionnait à l'essenc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3124080" cy="192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28195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53:34Z</dcterms:created>
  <dc:creator>User</dc:creator>
  <dc:description/>
  <dc:language>en-US</dc:language>
  <cp:lastModifiedBy>User</cp:lastModifiedBy>
  <dcterms:modified xsi:type="dcterms:W3CDTF">2012-05-07T17:13:03Z</dcterms:modified>
  <cp:revision>12</cp:revision>
  <dc:subject/>
  <dc:title>Slide 1</dc:title>
</cp:coreProperties>
</file>